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718-FBBA-4889-9343-33A67054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1FC-4121-4BF3-B042-6C280E6D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05F-8A44-4A9D-AB40-82CE779A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EB6-F3CE-44A0-AFA9-5EA20B97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B025-97F5-4901-946E-19C8099C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1EAA-17E2-49A3-8B72-3DF436CB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F8E6-ADEC-4B97-A928-8DFCF9C9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1EFC-3B06-4FB3-9827-160BD580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4BBB-9D61-45DA-958D-95A7C38A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C938-2D4B-4A19-822C-4F1508AD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64BC-FE52-45A1-8C1D-BFD0FE82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234-967A-4617-B96A-6B426175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0007-D960-45CE-B06F-69C0E563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4904-5BF1-440A-8843-7243F77E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1DEC-A5FD-4ECE-BEA9-48CEE55D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41BA-4E1D-49C7-921E-2550EF5A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F9BE-D30F-4C8E-8B8A-756F6808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2B5-277A-420F-A7C9-37292B15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FF2-01A4-4547-9EC9-BCA24DBD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4C0-6778-46CC-BDC7-51C2C86F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878-C0DC-4FBB-8084-22FD8C4E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E79-0EE5-4AB4-8A5B-303FAD63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2D8-0D6B-4E79-B7BF-6905E50F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DE3-BB74-452A-882B-9D754DC4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903F-1565-4168-A3AC-16BD74BA9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48F5-04B9-4FD3-82C6-340247F6C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anscendentalis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22860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dividual is the Worl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71840" y="517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91040" y="4567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4120" y="312408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62120" y="2971800"/>
            <a:ext cx="38098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e these people Nonconformists? Why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166920" y="3809880"/>
            <a:ext cx="1735200" cy="2019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956320" y="6019920"/>
            <a:ext cx="22838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rush Script MT"/>
              </a:rPr>
              <a:t>Madonna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2080" y="38847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min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791320" y="1905120"/>
            <a:ext cx="2211120" cy="297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576480" y="4925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.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k Yourself…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ranscendentalism really be define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power do political, religious, and corporate institutions wiel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one person make a difference in our societ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individuals have more power than they do? Why or why no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Founders and Supporter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8503"/>
                </a:solidFill>
                <a:latin typeface="Arial"/>
              </a:rPr>
              <a:t>Ralph Waldo Emers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young Boston pastor who began questioning his beliefs when the industrial revolution had shown that machines could replace people and the individual did not matt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8503"/>
                </a:solidFill>
                <a:latin typeface="Arial"/>
              </a:rPr>
              <a:t>Amos Bronson Alcot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isted that students should not be taught through routine memorization, but instead be challenged to think, debate and discu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Founder and Supporters (Cont.)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608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8503"/>
                </a:solidFill>
                <a:latin typeface="Arial"/>
              </a:rPr>
              <a:t>Henry David Thoreau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vy follower of Emerson. To protest slavery and the Mexican War, he refused to pay taxes and spent one night in pris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action began the idea of nonviolent civil disobedience that was adopted by many others such as Gandh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6240" y="1676160"/>
            <a:ext cx="418608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2877840" cy="2438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76920" y="4191120"/>
            <a:ext cx="3454200" cy="266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did Transcendentalists believe?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uman mind is so powerful that it can unlock any mystery, from the intricacies of nature to the wonder of G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Emerson, “The individual is the world” (This was in an age that gave all authority to organized institution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7772400" cy="2666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-914400"/>
          <a:ext cx="91440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914400"/>
                    <a:ext cx="9144000" cy="4114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727" dir="27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7467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How do we identify transcendentalist writing?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ll contain at least one of the following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wer of the human mi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eness of humans with na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onconforming-type statement or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Traditionalism (What Transcendentalism revolted against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Ned Flanders be considered a Traditionalist. Wh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188748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00400" y="1981080"/>
            <a:ext cx="2438280" cy="2032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943600" y="1905120"/>
            <a:ext cx="1641600" cy="2133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onconformis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Homer be a nonconformis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00800" y="251460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581280" y="2209680"/>
            <a:ext cx="2184480" cy="2273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e these people Traditionalist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208584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666880" y="1752480"/>
            <a:ext cx="2819520" cy="2870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3000" y="4952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 Foxwor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9400" y="495288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anner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867280" y="1676520"/>
            <a:ext cx="254016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326280" y="49528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 Gibso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5:34:33Z</dcterms:created>
  <dc:creator>Buffalo Grove High School</dc:creator>
  <dc:description/>
  <dc:language>en-US</dc:language>
  <cp:lastModifiedBy>Buffalo Grove High School</cp:lastModifiedBy>
  <cp:lastPrinted>2007-01-02T14:11:22Z</cp:lastPrinted>
  <dcterms:modified xsi:type="dcterms:W3CDTF">2007-11-19T13:15:12Z</dcterms:modified>
  <cp:revision>15</cp:revision>
  <dc:subject/>
  <dc:title>Transcendentalism</dc:title>
</cp:coreProperties>
</file>